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6CA-2E09-4F58-9B77-4CC5DD10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BE2-01A7-4F7B-9891-FFC26A7E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1AB-A2A6-4D4B-90BA-951FFA4A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158-AE4E-4914-836D-16C5EE59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F0C-35C4-4A41-BCD8-345891F5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0AA-B37F-4640-9EAD-71E2549A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E77-FA02-4A62-9921-1C9A2CA1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048-9ED3-4DC0-B614-F90F6962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A67-7C1E-4392-A336-9546683B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89E-008E-441D-B177-41F0AB8E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C75-782E-4B91-8315-D8A9F220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A2C-5464-4828-B73C-66228483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B69E0-FB6C-4C92-A81A-E384ED4D28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1156D-8410-4D7D-AD3F-6CAC95017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akapan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Torri  Weeks and Morgan By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cher:  Mrs. Sma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te:  October 21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ir daily life activities? Cont’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raded goods and animal skins with other tribes and with the French and Span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tribes were able to farm successfully beans and other crops, but not usually, because of the marshy terrains of the coastal ar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ir traditions and celebra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n wore breech cloths and the women wore wraparound skirts from deer skin or woven fabr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ook part in story-telling, artwork, music, ceremonial dances, and traditional medic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meared alligator grease all over their bodies to repel bu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flattened their skulls at the fr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John\Desktop\atakapan-sm.jpg"/>
          <p:cNvPicPr/>
          <p:nvPr/>
        </p:nvPicPr>
        <p:blipFill>
          <a:blip r:embed="rId1"/>
          <a:stretch/>
        </p:blipFill>
        <p:spPr>
          <a:xfrm>
            <a:off x="2997360" y="925560"/>
            <a:ext cx="31827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ir traditions and celebrations? Cont’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used wet bark for baby carriers and Spanish moss for diap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thers would rename themselves after the birth of their s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, only men were allowed to become Atakapan chie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id they believe and who did they worshi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elieved in a creator or great spirit that established the rules for appropriate con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displayed tattoos on their bodies to symbolize their family tribe and belie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opened their ceremonies with pra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elieved that men who died from snakebites and men who were eaten by other men were denied life after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id they believe and who did they worship?  Cont’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ir oral history of myths says they were created from a sea oy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elieved in a prophet, or author of all things who sent the spirits of those who did well, above, and those that did evil, under the earth and into the shadow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they known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gest thing they are known for is practicing cannibalism against their enem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a Southeastern culture of Native American tribes who spoke Ataka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alled themselves the Ishak which means, “The People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me Atakapa is Choctaw in origin and means, “Maneater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John\Desktop\335px-Attakapa2-1735-deBatz.jpg"/>
          <p:cNvPicPr/>
          <p:nvPr/>
        </p:nvPicPr>
        <p:blipFill>
          <a:blip r:embed="rId1"/>
          <a:stretch/>
        </p:blipFill>
        <p:spPr>
          <a:xfrm>
            <a:off x="3106800" y="1046160"/>
            <a:ext cx="33717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ntributions did they give to Texa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say their descendants exist today and have organized to be recognized as a tribe that maintains their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resent day towns can be traced back to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akapan is a language, not really a tribe and is still studied to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ydeco music is believed to have come from Atakap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nged for them as settlers arriv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ere decimated by infectious diseases of the late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 after European co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nch settlers exterminated the Eastern Ataka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m married into different tribes in Louisiana and migrated to other ar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erty also led to the demise of many ban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did they live in Texa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lived in the southeastern part of Texas, along the Gulf of Mex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ir villages and campsites were near the Trinity, Sabine, and San Jacinto Rivers, and the Galveston Bay are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usually lived in huts made from animal sk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bands lived along the shores of the Brazos R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ww.texasindians.com/atakap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king.coe.uh.edu/~mroy/edwards/page14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n.wikipedia.org/wiki/Atakapa_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ww.ehow.com › Culture &amp;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ww.angelfire.com/tx2/ecc/karankawa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ww.freewebs.com/beatleslover3393/contrastoftwotribes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bigorrin.org/atakapa_kids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John\Desktop\atabigs.jpg"/>
          <p:cNvPicPr/>
          <p:nvPr/>
        </p:nvPicPr>
        <p:blipFill>
          <a:blip r:embed="rId1"/>
          <a:stretch/>
        </p:blipFill>
        <p:spPr>
          <a:xfrm>
            <a:off x="1531800" y="1465200"/>
            <a:ext cx="56073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John\Desktop\native.jpg"/>
          <p:cNvPicPr/>
          <p:nvPr/>
        </p:nvPicPr>
        <p:blipFill>
          <a:blip r:embed="rId1"/>
          <a:stretch/>
        </p:blipFill>
        <p:spPr>
          <a:xfrm>
            <a:off x="738360" y="981000"/>
            <a:ext cx="70498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John\Desktop\houses.jpg"/>
          <p:cNvPicPr/>
          <p:nvPr/>
        </p:nvPicPr>
        <p:blipFill>
          <a:blip r:embed="rId1"/>
          <a:stretch/>
        </p:blipFill>
        <p:spPr>
          <a:xfrm>
            <a:off x="2027160" y="1873080"/>
            <a:ext cx="526572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id they eat and how did they get it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akapans were hunter gatherers and they caught fish, crabs, clams, shrimp, and oys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te lots of small game, plant foods, fruit, nuts, and wild ho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n hunted larger game like deer, bear, bison, and allig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men gathered bird eggs and herbs, farmed maize, and cooked the foo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John\Desktop\800px-Nelumbo_lutea.jpg"/>
          <p:cNvPicPr/>
          <p:nvPr/>
        </p:nvPicPr>
        <p:blipFill>
          <a:blip r:embed="rId1"/>
          <a:stretch/>
        </p:blipFill>
        <p:spPr>
          <a:xfrm>
            <a:off x="762120" y="981000"/>
            <a:ext cx="76197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id they eat and how did they get it?  Cont’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used poisons to catch f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used tools like bows and arrows and fishing spears for hunting and fish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killed alligators by spearing them in the ey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ir daily life activit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pent time moving camps near water and food sou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n made tools like spears for hun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men took care of the children and made clo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uilt crude huts, bear skin tents, and dugout cano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of their time involved hunting and gathering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4:09:32Z</dcterms:created>
  <dc:creator>Torrance Weeks</dc:creator>
  <dc:description/>
  <dc:language>en-US</dc:language>
  <cp:lastModifiedBy>John W. Weeks</cp:lastModifiedBy>
  <dcterms:modified xsi:type="dcterms:W3CDTF">2011-10-21T02:25:51Z</dcterms:modified>
  <cp:revision>36</cp:revision>
  <dc:subject/>
  <dc:title>Atakapan  </dc:title>
</cp:coreProperties>
</file>